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1A2-256C-4B17-A3B6-1538706F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442-029A-4520-AC5A-99136D9C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EDA-8FC4-4D98-8058-372704CA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987-A065-40C6-9A51-B79B5853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5AE7-4365-4E9A-B9AF-3403B2EE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75E4-EA5C-4F94-B0F1-0F6A1487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0C25-CFA3-4AC8-8587-63BE222C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4FE2-852D-4F09-97A5-D4E21A2F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0BAE-842D-41C8-8FE2-B6E38EA9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E66A-8F75-4674-8338-74555CF9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420B-2C42-4C96-827E-B12E048C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756-D58F-49A7-B41F-C8F5580D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99C0-D3DB-4A86-95B7-B85F62D0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9324-7398-4E3C-B88D-EB1F752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2722-EC7E-4B22-A570-7A92858B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4405-960A-4C84-ABC9-5BCFFDC5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A74B-4E71-4DF2-9047-BC41EE46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BB78-897B-4F39-BAAE-E9EF973F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446C2-DAB6-4AE8-B90D-75909433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BCD2-1630-477E-A93B-5377D7AF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738B-29D9-4F52-9BFB-11CCEB61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C7D6-2528-4135-932C-E722C56D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379-FFC1-4611-98ED-2B3C277C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221D-7851-41D6-9AAD-7A11EEFC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6814-4EDA-4706-A74F-7E51DDE3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24B8-C94F-46C5-8A0F-F89A600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D2B7-E70E-4699-875D-58CEC4B7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61AD-7543-4FEC-8863-07666756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0EDE-5578-44F0-8A79-D611756D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340C-1DF4-4F12-A6E6-6AAC663F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71E80-B993-4088-9590-CE9629DB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F26D-C0F4-4555-8D83-129E3501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C12D-0C33-4E29-B1E6-C0A88533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45B-08F3-4803-BFBF-06635A8B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32FE5-4107-4866-BC9C-94B90780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D5976-B708-4D05-8761-9B222D3D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8AF3-D51D-46ED-B354-2694442E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28ED-CD03-4D70-A8EF-753F35A1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8144-BE53-4461-BA41-0DB46A7F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07FB-7577-46FC-A662-BD9E505D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76161-747B-48E4-85BE-F7B18AC1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D9A0-87F6-40E8-ADD8-CBB454F7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A690-DED2-49FA-96D4-62683B48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25123-CE30-4394-9936-C16EB217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1EA-24F5-4D50-BA26-CDFC192F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9684-7302-4138-9AF6-131DB062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A7867-868F-4392-A375-73ECB41B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1831-E065-4420-AAEA-EB12ED6D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CE4C6-273B-44C8-B096-45F85031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4146B-5C8F-4C18-B7C3-ED9F17FD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8936-B3D2-4505-B199-D90B1425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E9D0-027B-416C-8375-C1749A29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284EB-F026-4504-B99D-EADA280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FA85-49DF-4562-ADFE-4A425C7C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4B2C7-66BF-4ADB-92F4-F609691C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F94-C9B8-44DC-B399-06E4FB70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C180-F106-4A77-9F4E-43DF74F6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59B57-B781-419B-9361-97FE1699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26763-736F-487A-9427-D41D0667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A479C-5383-47F8-88AA-EB712B67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0C2FE-383E-4CCB-AF42-90004848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05CC3-9076-41F3-9556-D7A1CA07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BB0E-156E-4918-8CAB-4259AEFD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C6506-B09E-4E74-B473-44EF371A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079E4-8F16-4632-8C94-8FEDB48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14E85-215B-4393-ACB1-13A496BC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E05-3481-43EF-965D-C1ACCA84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9BC25-90EF-4B66-9D17-6C941C52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CF5B3-1238-40E8-B58E-7743A0ED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F78E1-FA12-445E-8A70-D11FF907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5C69F-F135-4125-BF5D-A64A2BBF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81D08-1029-46B2-9A64-60304AB3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99C74-45D6-49E5-8232-D2859123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9A054-3835-4ADF-B28C-E8796DFA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0BD8D-4605-4D4E-8B82-7FA675FF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FEB2A-AE08-4AE2-AA46-87DF78BA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7EEBC-7ACC-4322-B57B-AB00F7B2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D05-732E-4E75-BA33-BB54551F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CF0BE-9090-4302-98AD-8CB07FDC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88A3F-1899-4C9F-94FD-A87540CB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88DF8-0760-476D-863E-0828956C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602E8-89C2-465F-A7C1-EB45978F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7647B-9CC8-486B-9DD1-2FC4ABBA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560-DF72-47C4-BC0C-79064624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BD29-A6D4-471B-8776-055BC5BDEF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365E-8077-430A-AEE9-EA85BEEDE9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6FA5-2F3C-409E-B96B-1E4135DC680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DA3F-E751-4AC3-8616-E2C2D2C21D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6974-3350-4B61-B4BE-B79CB1ABA8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BEDA-5062-470A-9749-7CBB25D04BB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1C42-A96B-4B81-99E8-E44719C2E0D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люч к те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)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) Природное сообщест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Но самыми  многочисленными обитателями являются грызуны. Один из самых известных полевых зверьков- крот. Также распространенными полевыми жителями являются мыши и хомяки. Эти грызуны очень осторожны, они могут быстро бегать ,но тем не менее, часто становятся жертвами многих хищников.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4365720"/>
            <a:ext cx="749952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039680" y="2576520"/>
            <a:ext cx="3875400" cy="3097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4962600" y="1881360"/>
            <a:ext cx="3876480" cy="2347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3"/>
          <a:stretch/>
        </p:blipFill>
        <p:spPr>
          <a:xfrm>
            <a:off x="4986360" y="4329000"/>
            <a:ext cx="3876480" cy="24685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1763640" y="5097600"/>
            <a:ext cx="2232000" cy="368280"/>
          </a:xfrm>
          <a:prstGeom prst="rect">
            <a:avLst/>
          </a:prstGeom>
          <a:gradFill rotWithShape="0">
            <a:gsLst>
              <a:gs pos="0">
                <a:srgbClr val="97c5d7"/>
              </a:gs>
              <a:gs pos="100000">
                <a:srgbClr val="e1ec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РО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5699160" y="3706920"/>
            <a:ext cx="2305080" cy="368280"/>
          </a:xfrm>
          <a:prstGeom prst="rect">
            <a:avLst/>
          </a:prstGeom>
          <a:gradFill rotWithShape="0">
            <a:gsLst>
              <a:gs pos="0">
                <a:srgbClr val="97c5d7"/>
              </a:gs>
              <a:gs pos="100000">
                <a:srgbClr val="e1ec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Хомя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тицы, живущие на полях, являются представителями отряда воробьиных. Чаще всего встречаются жаворонки и серые мухоловки. Жаворонки поселяются только на открытых участках. Они привлекают внимание своим мелодичным пением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3645000"/>
            <a:ext cx="749952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165320" y="3463920"/>
            <a:ext cx="3578040" cy="26035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859280" y="3427560"/>
            <a:ext cx="3959280" cy="2652480"/>
          </a:xfrm>
          <a:prstGeom prst="rect">
            <a:avLst/>
          </a:prstGeom>
          <a:ln w="0">
            <a:noFill/>
          </a:ln>
        </p:spPr>
      </p:pic>
      <p:sp>
        <p:nvSpPr>
          <p:cNvPr id="360" name="TextBox 2"/>
          <p:cNvSpPr/>
          <p:nvPr/>
        </p:nvSpPr>
        <p:spPr>
          <a:xfrm>
            <a:off x="5508720" y="5229360"/>
            <a:ext cx="194292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Серая мухолов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На полях можно встретить большое количество представителей отряда куриных. Самыми распространенными из них являются перепела, серые куропатки. Большая часть птиц, обитающих на полях, являются перелетными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093680" y="3624120"/>
            <a:ext cx="3822840" cy="3033720"/>
          </a:xfrm>
          <a:prstGeom prst="rect">
            <a:avLst/>
          </a:prstGeom>
          <a:ln w="0">
            <a:noFill/>
          </a:ln>
        </p:spPr>
      </p:pic>
      <p:sp>
        <p:nvSpPr>
          <p:cNvPr id="363" name="TextBox 2"/>
          <p:cNvSpPr/>
          <p:nvPr/>
        </p:nvSpPr>
        <p:spPr>
          <a:xfrm>
            <a:off x="6773760" y="4005360"/>
            <a:ext cx="187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7" descr="Перепел в домашнем хозйстве | Календарь праздников!"/>
          <p:cNvPicPr/>
          <p:nvPr/>
        </p:nvPicPr>
        <p:blipFill>
          <a:blip r:embed="rId2"/>
          <a:stretch/>
        </p:blipFill>
        <p:spPr>
          <a:xfrm>
            <a:off x="4916520" y="3728880"/>
            <a:ext cx="4138560" cy="29289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6156360" y="5950080"/>
            <a:ext cx="2232000" cy="368280"/>
          </a:xfrm>
          <a:prstGeom prst="rect">
            <a:avLst/>
          </a:prstGeom>
          <a:gradFill rotWithShape="0">
            <a:gsLst>
              <a:gs pos="0">
                <a:srgbClr val="97c5d7"/>
              </a:gs>
              <a:gs pos="100000">
                <a:srgbClr val="e1ec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ПЕРЕПЕ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023840" y="695160"/>
            <a:ext cx="3384720" cy="2625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5502240" y="803160"/>
            <a:ext cx="3649680" cy="2552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1440000" y="3971880"/>
            <a:ext cx="3168360" cy="2664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5435640" y="4187880"/>
            <a:ext cx="3540240" cy="2448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5"/>
          <a:stretch/>
        </p:blipFill>
        <p:spPr>
          <a:xfrm>
            <a:off x="3314880" y="2297160"/>
            <a:ext cx="3393720" cy="23749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5219640" y="2637000"/>
            <a:ext cx="1152720" cy="368280"/>
          </a:xfrm>
          <a:prstGeom prst="rect">
            <a:avLst/>
          </a:prstGeom>
          <a:gradFill rotWithShape="0">
            <a:gsLst>
              <a:gs pos="0">
                <a:srgbClr val="97c5d7"/>
              </a:gs>
              <a:gs pos="100000">
                <a:srgbClr val="e1ec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ЯСТРЕБ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187280" y="0"/>
            <a:ext cx="77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835e01"/>
                </a:solidFill>
                <a:latin typeface="Gill Sans MT"/>
              </a:rPr>
              <a:t>В поле можно встретить и хищных птиц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тицы помогают людям бороться с насекомыми-вредителями . Зерновые культуры страдают от жука-кузьки, хлебной жужелицы, шведской мухи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2708280"/>
            <a:ext cx="749952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474920" y="2492280"/>
            <a:ext cx="2952720" cy="2449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5796000" y="2492280"/>
            <a:ext cx="3073320" cy="2449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3"/>
          <a:stretch/>
        </p:blipFill>
        <p:spPr>
          <a:xfrm>
            <a:off x="3780000" y="4186080"/>
            <a:ext cx="2663640" cy="208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ПЬ ПИТАНИЯ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Например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1.Зерно- мыши- ежи-совы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тог урока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1.Скажите,какая у нас была тема урока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2.Что нового узнали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3.Давайте посмотрим на наше поле. Понравилось оно вам и чем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4.Скажите, а  что такое поле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5.Чем поле отличается от луга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161928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Gill Sans MT"/>
              </a:rPr>
              <a:t>Поле и его обитатели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562040" y="1447920"/>
            <a:ext cx="7042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58560" y="3213000"/>
            <a:ext cx="76755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ле-это большой участок земли с травянистым покровом без деревьев и кустарников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7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ле-это тоже природное сообщество, только искусственное, созданное человеком для выращивания культурных растен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72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208240" y="260280"/>
            <a:ext cx="576108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404280"/>
            <a:ext cx="749952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6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На полях люди выращивают зерновые культуры:   рожь, пшеницу, овес, ячмень, просо, кукурузу, гречиху.  На полях растут и овощные культуры: капуста, свекла, картофель, горох. Засевают поля и кормовыми травами: люцерна, люпин; а также масляничными: подсолнух , прядильными культурами: льном и хлопком.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766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547640" y="81000"/>
            <a:ext cx="3095640" cy="2303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5076720" y="152280"/>
            <a:ext cx="3467160" cy="223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3"/>
          <a:stretch/>
        </p:blipFill>
        <p:spPr>
          <a:xfrm>
            <a:off x="1357200" y="3860640"/>
            <a:ext cx="3240360" cy="2376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"/>
          <p:cNvPicPr/>
          <p:nvPr/>
        </p:nvPicPr>
        <p:blipFill>
          <a:blip r:embed="rId4"/>
          <a:stretch/>
        </p:blipFill>
        <p:spPr>
          <a:xfrm>
            <a:off x="5508720" y="3716280"/>
            <a:ext cx="3144600" cy="2521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"/>
          <p:cNvPicPr/>
          <p:nvPr/>
        </p:nvPicPr>
        <p:blipFill>
          <a:blip r:embed="rId5"/>
          <a:stretch/>
        </p:blipFill>
        <p:spPr>
          <a:xfrm>
            <a:off x="2603520" y="1955880"/>
            <a:ext cx="393696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5364000" y="304920"/>
            <a:ext cx="3240360" cy="2266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1454040" y="2997360"/>
            <a:ext cx="3333960" cy="280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4"/>
          <a:stretch/>
        </p:blipFill>
        <p:spPr>
          <a:xfrm>
            <a:off x="5076720" y="2894040"/>
            <a:ext cx="393696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alibri"/>
                <a:ea typeface="Calibri"/>
              </a:rPr>
              <a:t>На полях вырастают и сорняки: осот, василек полевой ,лебеда ,пырей ,пастушья сумка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547640" y="1932120"/>
            <a:ext cx="2953080" cy="2360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5435640" y="1932120"/>
            <a:ext cx="3002040" cy="2360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3"/>
          <a:stretch/>
        </p:blipFill>
        <p:spPr>
          <a:xfrm>
            <a:off x="3348000" y="3933720"/>
            <a:ext cx="32400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В полях обитают животные, насекомые и птицы. Животные полей чаще ведут мигрирующий образ жизни, и преодолевают огромные расстояния в поисках пищи. Большая часть жителей полей питается растительностью .Именно поэтому многие из них имеют широкие зубы с уплощенной верхней частью. На самых маленьких охотятся более крупные хищник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4005000"/>
            <a:ext cx="749952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547640" y="4141800"/>
            <a:ext cx="3384720" cy="2441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5241960" y="4084560"/>
            <a:ext cx="3660840" cy="249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В полях, которые граничат с лугами и перелесками, встречаются лисы, ласк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.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4319640" cy="2665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4097160" y="357012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20:40:15Z</dcterms:created>
  <dc:creator>онтон</dc:creator>
  <dc:description/>
  <dc:language>en-US</dc:language>
  <cp:lastModifiedBy>Татьяна Васильева</cp:lastModifiedBy>
  <dcterms:modified xsi:type="dcterms:W3CDTF">2021-02-23T13:35:06Z</dcterms:modified>
  <cp:revision>16</cp:revision>
  <dc:subject/>
  <dc:title>Поле и его обитатели</dc:title>
</cp:coreProperties>
</file>